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68B842-E4E3-48C5-8671-DC5822CC5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310BBB-B6B0-4610-962D-7C06A048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eam – secure, no politics, men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all suggestion – out there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gning in… group individual ideas into big ideas – themes that enable you to tell a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09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67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551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09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67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4440" y="914400"/>
            <a:ext cx="79246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09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46760" y="198108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551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09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46760" y="4210200"/>
            <a:ext cx="22813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4440" y="914400"/>
            <a:ext cx="79246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421020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3457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55160" y="4210200"/>
            <a:ext cx="7085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6e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66cc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5334120" y="0"/>
            <a:ext cx="3809880" cy="76212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97" h="437">
                <a:moveTo>
                  <a:pt x="527" y="5"/>
                </a:moveTo>
                <a:cubicBezTo>
                  <a:pt x="455" y="16"/>
                  <a:pt x="402" y="57"/>
                  <a:pt x="342" y="95"/>
                </a:cubicBezTo>
                <a:cubicBezTo>
                  <a:pt x="241" y="156"/>
                  <a:pt x="89" y="279"/>
                  <a:pt x="21" y="379"/>
                </a:cubicBezTo>
                <a:cubicBezTo>
                  <a:pt x="14" y="399"/>
                  <a:pt x="10" y="418"/>
                  <a:pt x="0" y="437"/>
                </a:cubicBezTo>
                <a:lnTo>
                  <a:pt x="2297" y="432"/>
                </a:lnTo>
                <a:lnTo>
                  <a:pt x="2297" y="0"/>
                </a:lnTo>
                <a:lnTo>
                  <a:pt x="527" y="5"/>
                </a:lnTo>
                <a:close/>
              </a:path>
            </a:pathLst>
          </a:custGeom>
          <a:solidFill>
            <a:srgbClr val="0066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" name="Picture 5" descr="HMH white"/>
          <p:cNvPicPr/>
          <p:nvPr/>
        </p:nvPicPr>
        <p:blipFill>
          <a:blip r:embed="rId2"/>
          <a:stretch/>
        </p:blipFill>
        <p:spPr>
          <a:xfrm>
            <a:off x="5987880" y="295200"/>
            <a:ext cx="300384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1f5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29600" indent="-12960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417240" indent="-16668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2" marL="786600" indent="-119160">
              <a:spcBef>
                <a:spcPts val="3501"/>
              </a:spcBef>
              <a:buClr>
                <a:srgbClr val="1f52c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3" marL="964080" indent="-9036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4" marL="1254960" indent="-12852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5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6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47520">
            <a:solidFill>
              <a:srgbClr val="c6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MH_title_pg_8"/>
          <p:cNvPicPr/>
          <p:nvPr/>
        </p:nvPicPr>
        <p:blipFill>
          <a:blip r:embed="rId2"/>
          <a:stretch/>
        </p:blipFill>
        <p:spPr>
          <a:xfrm>
            <a:off x="0" y="0"/>
            <a:ext cx="914544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240" y="3200400"/>
            <a:ext cx="9144000" cy="228600"/>
          </a:xfrm>
          <a:prstGeom prst="rect">
            <a:avLst/>
          </a:prstGeom>
          <a:solidFill>
            <a:srgbClr val="c6e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3276720"/>
            <a:ext cx="9147240" cy="761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1f5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Picture 8" descr="HMH_corp_hrz_4C(MED)"/>
          <p:cNvPicPr/>
          <p:nvPr/>
        </p:nvPicPr>
        <p:blipFill>
          <a:blip r:embed="rId3"/>
          <a:stretch/>
        </p:blipFill>
        <p:spPr>
          <a:xfrm>
            <a:off x="4724280" y="6172200"/>
            <a:ext cx="4191120" cy="38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29600" indent="-12960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417240" indent="-16668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2" marL="786600" indent="-119160">
              <a:spcBef>
                <a:spcPts val="3501"/>
              </a:spcBef>
              <a:buClr>
                <a:srgbClr val="1f52c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3" marL="964080" indent="-9036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4" marL="1254960" indent="-12852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5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6" marL="1254960" indent="-128520">
              <a:spcBef>
                <a:spcPts val="35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noliveri.typepad.com/.a/6a00d8341d7f0c53ef01156e658f71970c-800wi&amp;imgrefurl=http://www.annoliveri.typepad.com/&amp;usg=__goDPIWiyCtIgXHR713FcUK5NjXg=&amp;h=346&amp;w=347&amp;sz=137&amp;hl=en&amp;start=151&amp;um=1&amp;tbnid=ZnRQurqxz3RCCM:&amp;tbnh=120&amp;tbnw=120&amp;prev=/images%3Fq%3Dpost%2Bit%2Bnote%26ndsp%3D18%26hl%3Den%26sa%3DN%26start%3D144%26um%3D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annoliveri.typepad.com/.a/6a00d8341d7f0c53ef01156e658f71970c-800wi&amp;imgrefurl=http://www.annoliveri.typepad.com/&amp;usg=__goDPIWiyCtIgXHR713FcUK5NjXg=&amp;h=346&amp;w=347&amp;sz=137&amp;hl=en&amp;start=151&amp;um=1&amp;tbnid=ZnRQurqxz3RCCM:&amp;tbnh=120&amp;tbnw=120&amp;prev=/images%3Fq%3Dpost%2Bit%2Bnote%26ndsp%3D18%26hl%3Den%26sa%3DN%26start%3D144%26um%3D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419640"/>
            <a:ext cx="8077320" cy="552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Stem Grant Writing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c4"/>
                </a:solidFill>
                <a:latin typeface="Arial Black"/>
              </a:rPr>
              <a:t>Grant Writing Toolkit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c4"/>
                </a:solidFill>
                <a:latin typeface="Arial Black"/>
              </a:rPr>
              <a:t>Dr. Nancy Updegraff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ther Registr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01a52"/>
                </a:solidFill>
                <a:latin typeface="Arial"/>
              </a:rPr>
              <a:t>1                    4                           9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Numbers                   </a:t>
            </a:r>
            <a:r>
              <a:rPr b="0" lang="en-US" sz="3200" spc="-1" strike="noStrike">
                <a:solidFill>
                  <a:srgbClr val="4fff7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2                                45                            89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ypes of Federal Competitive Gran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ther federal opportunities grantsalert.com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wrangler . com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are the Types of Grants 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ndation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Many corporations or individuals form foundations to give money for selected causes to specific groups of people.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ound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Check the source of funds for the foundation.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Certain types of businesses may not be a good fit for your community. 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ound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the community is part of the foundation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you state how the activities of the grant will be publiciz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oundations want recognition for their good work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s begin with ideas!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  <p:pic>
        <p:nvPicPr>
          <p:cNvPr id="124" name="Picture 4" descr="ag00317_"/>
          <p:cNvPicPr/>
          <p:nvPr/>
        </p:nvPicPr>
        <p:blipFill>
          <a:blip r:embed="rId1"/>
          <a:stretch/>
        </p:blipFill>
        <p:spPr>
          <a:xfrm>
            <a:off x="5562720" y="2895480"/>
            <a:ext cx="2361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ake the posted notes next to you and put one idea on each one for a program or project you would like to fund with a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ake posted notes and place on chart paper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ry to group your ideas with other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6a00d8341d7f0c53ef01156e658f71970c-800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7621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6a00d8341d7f0c53ef01156e658f71970c-800w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762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6a00d8341d7f0c53ef01156e658f71970c-800wi"/>
          <p:cNvPicPr/>
          <p:nvPr/>
        </p:nvPicPr>
        <p:blipFill>
          <a:blip r:embed="rId5"/>
          <a:stretch/>
        </p:blipFill>
        <p:spPr>
          <a:xfrm>
            <a:off x="1676520" y="3505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6a00d8341d7f0c53ef01156e658f71970c-800wi"/>
          <p:cNvPicPr/>
          <p:nvPr/>
        </p:nvPicPr>
        <p:blipFill>
          <a:blip r:embed="rId6"/>
          <a:stretch/>
        </p:blipFill>
        <p:spPr>
          <a:xfrm>
            <a:off x="4572000" y="35053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aving looked at all the ideas, think of ways you could accomplish these idea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products will you need to accomplish these ideas?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type of professional development is required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lcom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ypes of grants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 writing fundamental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ources of gran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rainstorm – get ideas down firs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a list of all the reasons why you need the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another list of all the things you hope to accomplish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a third list of all the activities or ways you can accomplish your goal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Look over your lists and color code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rk in </a:t>
            </a:r>
            <a:r>
              <a:rPr b="1" lang="en-US" sz="2400" spc="-1" strike="noStrike">
                <a:solidFill>
                  <a:srgbClr val="4fff7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all that seem possibl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rk in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all that may be us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rk in </a:t>
            </a:r>
            <a:r>
              <a:rPr b="0" lang="en-US" sz="2400" spc="-1" strike="noStrike">
                <a:solidFill>
                  <a:srgbClr val="d01a52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all those that probably won’t be us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Keep a “grants” folder and put in all unused ideas for future us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Idea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alk to the person next to you for one minute about places you could look for new ideas about programs or teaching technique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an idea file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lip articles or download from Phi Delta Kappa, ASCD, Education Week, The Reading Teacher, other education journals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lip articles from newspapers and/or scan the web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Look at conference programs/attend free webinar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Read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of the grant and pre application packet if one exist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ighlight all important parts of the grant and tab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Highlight all money parts in </a:t>
            </a:r>
            <a:r>
              <a:rPr b="1" lang="en-US" sz="2400" spc="-1" strike="noStrike">
                <a:solidFill>
                  <a:srgbClr val="4fff70"/>
                </a:solidFill>
                <a:latin typeface="Arial Unicode MS"/>
              </a:rPr>
              <a:t>green, </a:t>
            </a: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signatures in </a:t>
            </a:r>
            <a:r>
              <a:rPr b="1" lang="en-US" sz="2400" spc="-1" strike="noStrike">
                <a:solidFill>
                  <a:srgbClr val="1912d0"/>
                </a:solidFill>
                <a:latin typeface="Arial Unicode MS"/>
              </a:rPr>
              <a:t>blue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Highlight all non-negotiable </a:t>
            </a:r>
            <a:r>
              <a:rPr b="0" lang="en-US" sz="2400" spc="-1" strike="noStrike">
                <a:solidFill>
                  <a:srgbClr val="d01a52"/>
                </a:solidFill>
                <a:latin typeface="Arial Unicode MS"/>
              </a:rPr>
              <a:t>red, </a:t>
            </a:r>
            <a:r>
              <a:rPr b="0" lang="en-US" sz="2400" spc="-1" strike="noStrike">
                <a:solidFill>
                  <a:srgbClr val="1912d0"/>
                </a:solidFill>
                <a:latin typeface="Arial Unicode MS"/>
              </a:rPr>
              <a:t>program parts in </a:t>
            </a: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yellow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0640" indent="-1706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ather data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Know where demographic data is kept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Find test scores and analyze data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Determine if surveys will be needed to supplement data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-2192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Put data in a file for easy access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4864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f the grant mentions research, read the research, and note terms or language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ote if signatures, letters, sign offs  are needed before the application is fil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Proof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   </a:t>
            </a:r>
            <a:r>
              <a:rPr b="0" lang="en-US" sz="4800" spc="-1" strike="noStrike">
                <a:solidFill>
                  <a:srgbClr val="1976d0"/>
                </a:solidFill>
                <a:latin typeface="Arial"/>
              </a:rPr>
              <a:t>People</a:t>
            </a:r>
            <a:endParaRPr b="0" lang="en-US" sz="4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1976d0"/>
                </a:solidFill>
                <a:latin typeface="Arial"/>
              </a:rPr>
              <a:t>Timelines</a:t>
            </a:r>
            <a:endParaRPr b="0" lang="en-US" sz="36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is a Grant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 grant is an award of money that allows you to fulfill a project or plan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1976d0"/>
                </a:solidFill>
                <a:latin typeface="Arial"/>
              </a:rPr>
              <a:t>Committees</a:t>
            </a:r>
            <a:endParaRPr b="0" lang="en-US" sz="36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Abstract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1976d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Start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Correlations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rts of the Gra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Letter of Inte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Letter of Inquiry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oals/Objectives/Outcom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rogram/Project/Pla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rts of the Gra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roject Activities/Methodology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over Letter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rts of the Gra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redentials/Job Description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FP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Letter of Inte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ny grants require a “letter of intent” before the district submits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letter of intent lets the agency know how many districts are planning to submit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letter of intent states that the district intends to apply for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Letter of Inquir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ny foundations request a letter of inquiry that helps determine if they are interested in your project before accepting the full proposal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Letters of inquiry should be brief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Are the Types of Gran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Entitleme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Competitive- federal, state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need section tells your stor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need section tells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you are seeking the grant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need section proves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you qualify for the grant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“needy” but not dramatic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specific to your district or school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ome grants target specific needs such as poverty, second language, geographic area, age of population to be served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your grant fits the needs and includes all necessary data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Use charts, tables and  graphs whenever possible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f you have no hard data, maybe that is the problem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urveys, observations, letters can be a part of the need stateme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art of the need could be the lack of a data collection  and tracking system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 the words of Abraham Lincoln…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Begin With Need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eed statements are usually about 1/5 of the total points of the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 general description of the district may precede the hard data so the reviewer can have a mental picture of the area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Needs Assessme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tes the problem:</a:t>
            </a:r>
            <a:br>
              <a:rPr sz="2400"/>
            </a:b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Data—children and teacher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Explains educational problem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Offers backup: current research, quotes, statistics, studi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Validity and reliability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Needs Sec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Qualiti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rts with general information and becomes specific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Provides background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tes what has and hasn’t been done to solve problem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Uses charts, tables, or graphs for clarity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oals/Objectives/Outcom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 goal is a broad statement. It contains long term intention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 are lists of specific outcome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 are outcomes that may be expected from the projec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 are concrete, realistic, measurable, obtainable and time bound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Students will…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Teachers will..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350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 Unicode MS"/>
              </a:rPr>
              <a:t>Teacher’s manuals and curriculum guides are often good sources of objectives</a:t>
            </a:r>
            <a:endParaRPr b="0" lang="en-US" sz="2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ne of the best tools for working with federal grants is Grants.gov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nother tool that has a list of all grants is CDFA- Catalog of Domestic Assistance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25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76d0"/>
                </a:solidFill>
                <a:latin typeface="Arial Unicode MS"/>
              </a:rPr>
              <a:t>Lists all past and current Federal Grants</a:t>
            </a:r>
            <a:endParaRPr b="0" lang="en-US" sz="1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utcome Statemen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se are also known as expectation statement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t the end of ________weeks students will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y using _________teachers will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gram Descrip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Program Description must be clear and well organiz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Program Description answers: “who, what, where, when, why, how?”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ject/Plan/Progra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The project/plan is the heart of the grant.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TEM – make sure you cover Science, Technology, Engineering ( career education) Math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ow can you integrate the elements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is the project?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is the plan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ject/Plan/Progra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ow will goals be accomplished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will students be doing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will teachers be doing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at will community or parents be doing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ject/Pla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imeline—month by month guide to how the project will be accomplish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1 conduct needs assessments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1 order materials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1 train new staff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2 begin professional development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spcBef>
                <a:spcPts val="2500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 Unicode MS"/>
              </a:rPr>
              <a:t>Month 3 begin classroom observations</a:t>
            </a:r>
            <a:endParaRPr b="0" lang="en-US" sz="20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evaluation examines the effectiveness of the projec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evaluation examines how well the project meets the need established in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evaluation proves the project work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uture Funding/Sustainabilit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3465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ow program will be continued after grant?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ow will you search for additional funds?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ow could other non-grant schools be included?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467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What are other ways of raising mone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reativity (how could you fund the program at a later date?)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Awareness that “funder” may lead to other sourc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ver Letter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clude a cover letter if one is requir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Place a cover on the grant which gives the title and the name of the district. Don’t decorate the cover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clude responsible people on the cover if need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Titl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he title should reflect the project inte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succinct and not wordy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careful what you spell- C.R.E.E.P. (Cleveland Reading Effectiveness Evaluation Project)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Find federal opportuniti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et registered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view previous successful abstrac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view previous successful gran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o, What, Where, When, How, Why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a best guess for each area to be fund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No miscellaneous or vague categories. “Other” is not a budget categor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n-kind contributions (rooms at school, parent help, school secretary help, donated time)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taff development provided at no charge from a publisher should be listed as “in kind.”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ho controls the money?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Keep a running record of all budget fund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76d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976d0"/>
                </a:solidFill>
                <a:latin typeface="Arial"/>
              </a:rPr>
              <a:t>Check all budget figures!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1976d0"/>
                </a:solidFill>
                <a:latin typeface="Arial"/>
              </a:rPr>
              <a:t>Conferences</a:t>
            </a:r>
            <a:endParaRPr b="0" lang="en-US" sz="4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udge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40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76d0"/>
                </a:solidFill>
                <a:latin typeface="Arial"/>
              </a:rPr>
              <a:t>Receipts</a:t>
            </a:r>
            <a:endParaRPr b="0" lang="en-US" sz="32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redentials and Job Descrip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prepared to document credentials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f new positions are created a job description will probably be required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be the place where all of the letters, or proofs are plac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include all research documentation and a bibliograph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include additional documentation that would not fit in the body of the grant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The appendix may include all correlation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clude relevant data and research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Don’t use the appendix as a place to continue narratives that did not fit into the page limits of the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Only include in the appendix material required by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Track your application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pplicant Resourc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Guides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Frequently asked questions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Links to download government software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lvl="1" marL="571680" indent="-22860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Help submitting an egrant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RFP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n RFP – “request for proposal” is another form of a grant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ost RFP’s have specific sections just like a grant, but require shorter more concise answer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ometimes an RFP is submitted first and used as a screening device before actual grant submission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—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Reread the entire grant before sendin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Check spelling, grammar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aware of where the page numbers are to be plac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Put a name on each page of the grant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76d0"/>
                </a:solidFill>
                <a:latin typeface="Arial"/>
              </a:rPr>
              <a:t>Be on time! You will not be funded if you are lat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- 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view the language of the grant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Don’t get carried away with adjectives or jargon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void  acronyms- especially sentences of them. Example: All ABC’s, should be aware of EFG’s when using HIJ, in conjunction with MNOP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—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f the grant states a dollar amount, be within the budget.  Have someone check all figures for accuracy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prepared to negotiate your budget so ask for a little more than you actually need. Have some items you could leave out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neat—not cutesy. Save the decorations for bulletin board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 Final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Be prepared to win and/or be rejecte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cceptance may be demographic or political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Make sure you have used the language of the grant or language from current journals. 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f a foundation gives you a grant with specific sections and grant seems to repeat the same question do not refer to a prior page</a:t>
            </a:r>
            <a:r>
              <a:rPr b="0" i="1" lang="en-US" sz="2400" spc="-1" strike="noStrike">
                <a:solidFill>
                  <a:srgbClr val="1976d0"/>
                </a:solidFill>
                <a:latin typeface="Arial"/>
              </a:rPr>
              <a:t>—repeat your answer!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ny grants are written  in sections so check verb tense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Use the active tense of verb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Avoid “I, me, we, and our if at all possible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sure all those who are mentioned in the grant are aware and agree to participat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Review each section and check against the rubric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sure all necessary signatures are in plac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Make sure all numbers, proofs and documents are included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Get a confirmation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 Check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ad prior successful grants before submitting. Don’t copy other grants!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Read review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—Found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f at first you don’t succeed, </a:t>
            </a:r>
            <a:br>
              <a:rPr sz="2400"/>
            </a:b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submit to someone els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web savvy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Be unique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Have a gimmick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Involve community and parents.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"/>
              </a:rPr>
              <a:t>3 “Ps”—Publish, Promote, Pray!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337440" y="2438280"/>
            <a:ext cx="22604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99ff">
                      <a:alpha val="86000"/>
                    </a:srgbClr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4fff7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PUBLISH</a:t>
            </a:r>
            <a:endParaRPr b="0" lang="en-US" sz="2400" spc="1" strike="noStrike">
              <a:ln w="12600">
                <a:solidFill>
                  <a:srgbClr val="3399ff">
                    <a:alpha val="86000"/>
                  </a:srgbClr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4fff7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6248520" y="3581280"/>
            <a:ext cx="2438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99ff">
                      <a:alpha val="86000"/>
                    </a:srgbClr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4fff7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PROMOTE</a:t>
            </a:r>
            <a:endParaRPr b="0" lang="en-US" sz="2400" spc="1" strike="noStrike">
              <a:ln w="12600">
                <a:solidFill>
                  <a:srgbClr val="3399ff">
                    <a:alpha val="86000"/>
                  </a:srgbClr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4fff7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6362640" y="4724280"/>
            <a:ext cx="221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99ff">
                      <a:alpha val="86000"/>
                    </a:srgbClr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4fff7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PRAY</a:t>
            </a:r>
            <a:endParaRPr b="0" lang="en-US" sz="2400" spc="1" strike="noStrike">
              <a:ln w="12600">
                <a:solidFill>
                  <a:srgbClr val="3399ff">
                    <a:alpha val="86000"/>
                  </a:srgbClr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4fff7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Links to documents and downloads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Contact U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999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76d0"/>
                </a:solidFill>
                <a:latin typeface="Arial Unicode MS"/>
              </a:rPr>
              <a:t>How and who to call or email</a:t>
            </a:r>
            <a:endParaRPr b="0" lang="en-US" sz="2400" spc="-1" strike="noStrike">
              <a:solidFill>
                <a:srgbClr val="1976d0"/>
              </a:solidFill>
              <a:latin typeface="Arial Unicode MS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Grant E-Mail Aler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fter the Acceptanc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1976d0"/>
                </a:solidFill>
                <a:latin typeface="Arial"/>
              </a:rPr>
              <a:t>Celebrate Wisely</a:t>
            </a:r>
            <a:endParaRPr b="0" lang="en-US" sz="4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fter Acceptanc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Keep a record of successes and failures.  Be prepared to explain failures honestly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Keep accurate records, keep accurate records, keep accurate records,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Write the final report and turn it in on time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ww.grants.gov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ww.fdncenter.org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ublisher’s websi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tate websi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Other state’s websi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profit Support Organizations (National)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liance for Nonprofit manage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llianceonline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cil for Excellence in Nonprof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cen.org/site/cen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cil on Found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conf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e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indepsec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2500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76d0"/>
                </a:solidFill>
                <a:latin typeface="Arial"/>
              </a:rPr>
              <a:t>National Council of Nonprofit Organizations www.ncna.org</a:t>
            </a: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 for Nonprofit Organizations www.snpo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ndation Center www.foundationcenter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ncenter.org/funders/grantmakes/gws_corp/corpl.html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ity of Wisconsin Grants Information center, a coopering collection of the Foundation Center Library Networks: www.library.wis.edu/libraries/Memorial/grantshp.htm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aftsmanship Center: www.tgci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Star: www.guidestar.org data base of every nonprofit organization in the United State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igan State University Research Links www.lib.msu.edu/harris23/grants/2child.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na Foundation www.dana.org (the arts)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Hood Foundation www.robinhood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yce Foundation www. Joycefdn.org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s in Kind www.giftsinkind.org – provides a catalog of donated products of all kinds. 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2999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 Soup www.techsoup.org- software donations from a variety of companies</a:t>
            </a: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  <a:p>
            <a:pPr marL="1778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ggestions for Research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Use parent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Use the high school National Honor Society as a service projec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An Eagle Scou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Service groups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Need Help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Nancy Updegraff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  <a:p>
            <a:pPr lvl="1" marL="571680" indent="-228600">
              <a:spcBef>
                <a:spcPts val="2251"/>
              </a:spcBef>
              <a:buClr>
                <a:srgbClr val="1f5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76d0"/>
                </a:solidFill>
                <a:latin typeface="Arial Unicode MS"/>
              </a:rPr>
              <a:t>Nancy.updegraff@hmhco.com</a:t>
            </a:r>
            <a:endParaRPr b="0" lang="en-US" sz="1800" spc="-1" strike="noStrike">
              <a:solidFill>
                <a:srgbClr val="1976d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4440" y="91440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tting Registered on Grants.g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5160" y="1981080"/>
            <a:ext cx="7085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501"/>
              </a:spcBef>
              <a:buClr>
                <a:srgbClr val="1f5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In order to apply for a grant on Grants.gov you must be registered. You </a:t>
            </a:r>
            <a:r>
              <a:rPr b="1" lang="en-US" sz="2800" spc="-1" strike="noStrike">
                <a:solidFill>
                  <a:srgbClr val="1976d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1976d0"/>
                </a:solidFill>
                <a:latin typeface="Arial"/>
              </a:rPr>
              <a:t> be registered and have a number to submit the grant</a:t>
            </a:r>
            <a:endParaRPr b="0" lang="en-US" sz="2800" spc="-1" strike="noStrike">
              <a:solidFill>
                <a:srgbClr val="1976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7:57:33Z</dcterms:created>
  <dc:creator>NUpdegraff</dc:creator>
  <dc:description/>
  <dc:language>en-US</dc:language>
  <cp:lastModifiedBy>kthompson</cp:lastModifiedBy>
  <cp:lastPrinted>2003-09-05T18:38:31Z</cp:lastPrinted>
  <dcterms:modified xsi:type="dcterms:W3CDTF">2013-02-14T13:37:39Z</dcterms:modified>
  <cp:revision>198</cp:revision>
  <dc:subject/>
  <dc:title>The challenge of change</dc:title>
</cp:coreProperties>
</file>